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9CE8-4ADB-4C63-98BB-81DA3E12F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8F98-059A-446F-AB91-81FA16D5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13EF-B7D6-4561-8F6C-49FEC2934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2D18-75C3-43A1-9713-E5331E5EC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F2BC-9108-468B-AEE4-B385C981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D975-5DBD-48A9-9B02-1887B4CC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E417-4D6E-4550-990F-1C84A327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ADD6-EA8B-4768-94A0-730A45A1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73C2-88FE-493F-A0BB-98B08AE6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FB80-2804-4C93-AD16-41199E41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FC66-B56B-4B5B-B8EC-3C2489EC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38DA-8E57-47A8-9FC5-DD8F0D3E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A973-7654-4F5B-B869-C7CEE8F1C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Медицина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заснована на доказим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ф. др Слободан Јанкови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ЕФИНИЦИЈ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едицин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заснована на доказима је “пажљива, промишљена употреба најбољих доказа из медицинске литературе у доношењу одлуке о лечењу конкретног болесника. То значи да се индивидуално клиничко искуство интегрише са најбољим клиничким доказима из систематског истраживањ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Шта то практично значи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Код нашег пацијента постоји одређени здравствени проблем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Прво треба да проблем прецизно дефинишемо. На пример: “Да ли постоји дијетални суплемент који може да снизи повишени артеријски притисак код одраслих пацијената са есенцијалном хипертензијом у фази 1.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Затим налазимо све </a:t>
            </a:r>
            <a:r>
              <a:rPr b="1" lang="sr-CS" sz="3000" spc="-1" strike="noStrike">
                <a:solidFill>
                  <a:srgbClr val="000000"/>
                </a:solidFill>
                <a:latin typeface="Times New Roman"/>
              </a:rPr>
              <a:t>клиничке студије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које су публиковане на ту тему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Шта то практично значи? - настава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д пронађених публикованих студија издвајамо само оне које су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методолошки исправно урађен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(дакле валидне) и чији резултат је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клинички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начаја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а основу издојених студија формулишемо решење проблема пацијен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имењујемо решење на пацијент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Суштина </a:t>
            </a: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Медицине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засноване на доказим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ЗД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Медицина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заснована на доказима је интеграција клиничког искуств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система вредности пацијента и најбољих доказа из литератур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Докази сами по себи не доводе до закључа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већ само помажу у одређивању најбољег третмана пацијен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Примена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ЗД обично се започиње приликом прегледа пацијен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када се генеришу питања о ефектима лечењ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корисности дијагностичког теста или прогнози боле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Д захтева нове вештине од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лекар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претраживање литературе и примену формалних правила за евалуацију доказа из литературе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Зашто </a:t>
            </a: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Медицин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заснована на доказима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 свака 3 пацијента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лека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у просеку генерише 2 питања на која не може да пружи одгово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 1900. години било је око 10,000 научних часописа; у 1990 било је више од 100,000 научних часописа; 90% свих најкрупнијих открића у науци је објављено у 150 од ових 100,000 публикација; 80% цитата које нотира С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ајенс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Цит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ејш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Инд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се налазе у мање од 1,000 часопис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Алтернатива Медицини заснованој на доказим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49687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А ЗА КЛИ-НИЧКЕ ОДЛУ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РК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РАВА ЗА МЕРЕ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ЈЕДИНИЦА МЕ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а заснована на </a:t>
                      </a: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миненциј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сјај седе кос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уминомета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тичка густин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а заснована на </a:t>
                      </a: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снос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убина глас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удиомета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цибе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а заснована на </a:t>
                      </a: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локвенциј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штина говор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зомета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ор лепљивос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а заснована на </a:t>
                      </a: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леганциј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ста одећ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чни ви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рмани - 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а заснована на </a:t>
                      </a: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иђењ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во видљиве религиознос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кстант за мерење угла колен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ђународне јединице пијетет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а заснована на </a:t>
                      </a: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учешћ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во жалос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хиломета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зда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а заснована на </a:t>
                      </a: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рвоз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во фобије од тужбе за несавесно лечењ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аки могући дијагностички тес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ње на рачуну у банц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а заснована на </a:t>
                      </a: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поуздању</a:t>
                      </a: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изичне интервенције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ст знојењ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ма знојењ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Text Box 74"/>
          <p:cNvSpPr/>
          <p:nvPr/>
        </p:nvSpPr>
        <p:spPr>
          <a:xfrm>
            <a:off x="1467720" y="6597720"/>
            <a:ext cx="59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tzgerald D, Isaaks D. Seven alternatives to evidence based medicine. BMJ 1999; 319: 16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21:18:48Z</dcterms:created>
  <dc:creator>Slobodan Jankovic</dc:creator>
  <dc:description/>
  <dc:language>en-US</dc:language>
  <cp:lastModifiedBy>Slobodan Jankovic</cp:lastModifiedBy>
  <dcterms:modified xsi:type="dcterms:W3CDTF">2014-07-12T17:21:36Z</dcterms:modified>
  <cp:revision>57</cp:revision>
  <dc:subject/>
  <dc:title>Slide 1</dc:title>
</cp:coreProperties>
</file>